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image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974-48F3-4418-90F7-EF133A12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ED5-853F-4330-997A-480F0C17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AAF-5A4E-4268-8B05-638A40E8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5C8-AB7E-42D7-931C-7A456111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4F7-8891-41D4-8866-C885942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EE0-A3D6-409F-8943-852DCEED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595-70F7-4C6A-8700-9657571F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705-62FB-47A4-B618-FF0FE77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43C-C0D6-42EB-A3AF-39DDC8B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41F-792C-452F-AD92-47982D1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D77-E010-4218-AC2B-51C16CC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F60-3953-4CB6-BB31-9F19A70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9C6-CF50-47F1-9846-9F83F0A4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y Gloss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2148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By Callum Willia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ccc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Relationships i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ecific data that can strongly relate to oth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Tally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asic type of chart using un-complex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Frequenc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frequency table is a table usually added to a tally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6f8b91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Pict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type of graph that uses pictures instead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raph that uses bars to show off data, also has several vari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e of the many variants of the ba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trip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K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Pi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raph shaped like a pie with colour key also comes in 3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Dot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plot using y &amp; x axis with dots to mark data 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tem and leaf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means of displaying data where the data is split into two parts to show the range &amp; spread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ch\group of objects\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catter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actically the same as a dot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Box and whis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ype of plot used to show data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ne graphs are similar with connecting lines but the lines show a trend to the middl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verage answer acquired by adding up all the numbers then divided by how many ther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middle number in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most common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mount from the smallest piece of data to the largest 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around the median usually seen in box and whisker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ngs that could make the result turn out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7575"/>
            </a:gs>
            <a:gs pos="50000">
              <a:srgbClr val="ff0000"/>
            </a:gs>
            <a:gs pos="100000">
              <a:srgbClr val="f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 the end of a survey you use a conclusion to some up your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or thing that lies out with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asically the same as conclusion but a little more compl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4102200"/>
          <a:ext cx="5688000" cy="26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102200"/>
                    <a:ext cx="56880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059280" y="1276200"/>
          <a:ext cx="5911560" cy="270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1276200"/>
                    <a:ext cx="591156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484360" y="3240"/>
          <a:ext cx="6659640" cy="29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40"/>
                    <a:ext cx="665964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9640" y="3451320"/>
          <a:ext cx="705672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451320"/>
                    <a:ext cx="7056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course or the way it 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variate d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ta with multiple variants i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le to vary or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part of a number\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urve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ask questions to receive specif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Patterns i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pattern or consistent change i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21:19:01Z</dcterms:created>
  <dc:creator>callumwi</dc:creator>
  <dc:description/>
  <dc:language>en-US</dc:language>
  <cp:lastModifiedBy>callumwi</cp:lastModifiedBy>
  <dcterms:modified xsi:type="dcterms:W3CDTF">2010-05-31T21:25:23Z</dcterms:modified>
  <cp:revision>15</cp:revision>
  <dc:subject/>
  <dc:title>My Glossary</dc:title>
</cp:coreProperties>
</file>